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3481-4B6E-4B34-AA70-6099BE511E58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CACA-A085-437F-B759-85891B05CC7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56FC-DA0B-47BC-B024-EABE0564915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5C18-7474-4EA8-A2F9-398CFAAA4B9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C25A-43A9-4204-8734-F870F20D561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EC35-5762-4935-BC74-B8834C06C2E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B0ED-C5E5-4AE8-9B41-91E9D4EFC54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6A86-A02D-48DF-BFBF-1B3A10754FD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E69F-D71E-4A41-9663-A6CDEC22ACB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394A-DF8B-4A18-A48A-37EF7BF518E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7294-8FF4-4B17-990A-E92914E0C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3670-A5C5-4B7D-A13D-034EF6413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F1C8-A8D4-431A-A3C1-6127AB7BD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3A13-607E-47EA-BC67-4428631932F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AC93-3D37-481E-8C31-3CD03AFD76A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1DAC-BF9E-4C4B-83AB-8A2AD24504F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21CA-5CAD-43BA-8BF3-9908C43367A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271D-C935-44E9-8679-CAFFA164DAE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4CAB-78FD-4BC6-921F-AAE0A429602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2048-CEAA-4A81-9701-4BAADB1A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398-BCAC-443A-AB92-6D450D18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C405-1CF5-4A4C-AE34-CF646CD1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466B-159D-4772-9079-48BA5DE1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4DE5-E730-4792-A1B0-263879E9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DACB-FCD1-417B-AA1E-FA949AEC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9861-3524-43FC-ABF4-5055952F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F699-60CA-4D1F-B326-69C6B486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FFE5-CB7B-4305-8E35-E895871A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6EC4-DE87-4F41-BD88-9CB8BD7E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F416-DED8-4FFB-87DF-DED2DB58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DAF-7ED6-47E3-8903-613915B8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49A1-8153-4540-80EA-72B40100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8BD1-B1B3-49CB-9798-A891C426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7D7F-ACC8-4895-8072-44FBF4DC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7626-CFC7-4D9B-87E5-C54E31DC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82A7-8667-454B-AD02-D45F7455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8B66-553D-4604-BA3B-A7AF9E84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D85-8B4B-4184-97B5-54BC9413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C24-F1EA-4259-9131-D54A3C18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296-9D4D-4CA3-8343-D3271412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349-25F5-4D65-976D-B41BD01B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58FA-C709-408E-AF06-66A40F91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6645-A0DB-471C-9A27-F20281BC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4BFD-E074-42E6-B99C-283B9147032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A787-9691-4A66-BC5A-2C6D983C887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va.gov.lv/karjera/testi/lv/selfcheck_b/test/new_test/" TargetMode="External"/><Relationship Id="rId2" Type="http://schemas.openxmlformats.org/officeDocument/2006/relationships/hyperlink" Target="http://www.niid.lv/tests/testi/tests4_1.ph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METODIKAS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ašnoteicējs jauniešiem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odarbinātības valsts aģentūras mājas lapas sadaļā „Karjeras pakalpojum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va.gov.lv/karjera/testi/lv/selfcheck_b/test/new_test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ersonības tests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acionālās izglītības iespēju datubāzes sadaļā „Karjeras izvēles test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iid.lv/tests/testi/tests4_1.php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rutīnveida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r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8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55736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21:25Z</dcterms:modified>
  <cp:revision>340</cp:revision>
  <dc:subject/>
  <dc:title>Slide 1</dc:title>
</cp:coreProperties>
</file>